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663-0555-498F-A0B1-1EE6D84CF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287-6B2B-435F-8959-620269AC1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F0F-B6D7-4C66-82BE-DA67331E7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8C75-C839-4C55-9192-2905B3C86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AD7F-B06A-4A83-9B12-B8EE5BB67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055-9C2E-42BB-A4AE-8B08D30D8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B1F4-6559-4ECF-9D3B-C257395C9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82F-9569-4331-94FC-C8D7B8850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76D-A39E-4824-9861-BA1110660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E77-2D1E-48B3-B66D-31497EC0A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D8B-62DF-4E35-80F8-10F72679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DD1-D708-42B7-966F-FD7F7FE1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169-9A0B-4270-8B97-3836829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1B9-99AB-4967-9D11-17CD9DEC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D31-D5DD-40B6-85AB-0B55DD7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669-FCD8-4C36-BD5A-4EC6F76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F70-D0BD-4376-9E14-A786CAE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EB2-53A7-43D0-B424-099E7E1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C7E-AEEA-475A-92D0-B57C1B50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3A3-9ECB-4835-8FBC-7E0F36A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028-4A76-4114-925C-74FC460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B75-513F-416E-A57D-FBA6E86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875-E1C8-4A2A-96EE-820B33B8AB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1" descr=""/>
          <p:cNvPicPr/>
          <p:nvPr/>
        </p:nvPicPr>
        <p:blipFill>
          <a:blip r:embed="rId1"/>
          <a:stretch/>
        </p:blipFill>
        <p:spPr>
          <a:xfrm>
            <a:off x="95400" y="549360"/>
            <a:ext cx="89532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Swyddogaethau a Chyfrifoldeb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5157720"/>
            <a:ext cx="7775640" cy="147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erthnasau Gwa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1979640" y="1341360"/>
            <a:ext cx="509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e nifer o entrepreneuriaid yn cychwyn fel menter un-person ond yn adeiladu eu tîm yn raddol wrth i’r busnes ehang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3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wyliwch y clip fideo o Syniadau Mawr Cymru – Annette C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n weithio mewn para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dwch y sgiliau/swyddogaethau sydd eu hangen ar gyfer menter busnes lwyddiann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hannw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eich syniadau gyda’r bobl sy’n eistedd o’ch bla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giliau/swyddogaethau sydd eu hangen ar gyfer menter busnes lwyddian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Content Placeholder 11268"/>
          <p:cNvGrpSpPr/>
          <p:nvPr/>
        </p:nvGrpSpPr>
        <p:grpSpPr>
          <a:xfrm>
            <a:off x="2041920" y="1765440"/>
            <a:ext cx="4880520" cy="4644000"/>
            <a:chOff x="2041920" y="1765440"/>
            <a:chExt cx="4880520" cy="4644000"/>
          </a:xfrm>
        </p:grpSpPr>
        <p:sp>
          <p:nvSpPr>
            <p:cNvPr id="56" name="_s1028"/>
            <p:cNvSpPr/>
            <p:nvPr/>
          </p:nvSpPr>
          <p:spPr>
            <a:xfrm>
              <a:off x="3192120" y="1765440"/>
              <a:ext cx="2577960" cy="257832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8320"/>
                <a:gd name="textAreaBottom" fmla="*/ 2578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 rot="4320000">
              <a:off x="4009320" y="2359800"/>
              <a:ext cx="2577960" cy="2577600"/>
            </a:xfrm>
            <a:custGeom>
              <a:avLst/>
              <a:gdLst>
                <a:gd name="textAreaLeft" fmla="*/ 0 w 2577960"/>
                <a:gd name="textAreaRight" fmla="*/ 2578320 w 2577960"/>
                <a:gd name="textAreaTop" fmla="*/ 0 h 2577600"/>
                <a:gd name="textAreaBottom" fmla="*/ 2577600 h 25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rot="8640000">
              <a:off x="3695760" y="3319560"/>
              <a:ext cx="2577600" cy="2578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 rot="12960000">
              <a:off x="2686680" y="3317760"/>
              <a:ext cx="2577600" cy="2577960"/>
            </a:xfrm>
            <a:custGeom>
              <a:avLst/>
              <a:gdLst>
                <a:gd name="textAreaLeft" fmla="*/ 0 w 2577600"/>
                <a:gd name="textAreaRight" fmla="*/ 2577600 w 257760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rot="17280000">
              <a:off x="2376720" y="2357640"/>
              <a:ext cx="2578320" cy="2577960"/>
            </a:xfrm>
            <a:custGeom>
              <a:avLst/>
              <a:gdLst>
                <a:gd name="textAreaLeft" fmla="*/ 0 w 2578320"/>
                <a:gd name="textAreaRight" fmla="*/ 2578320 w 2578320"/>
                <a:gd name="textAreaTop" fmla="*/ 0 h 2577960"/>
                <a:gd name="textAreaBottom" fmla="*/ 2578320 h 25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514260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216828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ales and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rketing 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2872080" y="1875240"/>
              <a:ext cx="947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Management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5846040" y="403596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Fina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4007160" y="5373000"/>
              <a:ext cx="9478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Promotion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Skill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wyddogaethau a Chyfrifoldebau Swy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n ddefnyddio’r cardiau swyddogaeth yn yr amlen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. dewiswch y swyddogaethau sydd, yn eich barn chi, yn bwysig ar gyfer eich menter bus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luniwch siart sefydliad ar gyfer eich busnes c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Content Placeholder 5124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0" name="_s2052"/>
            <p:cNvCxnSpPr>
              <a:stCxn id="71" idx="0"/>
              <a:endCxn id="72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3"/>
            <p:cNvCxnSpPr>
              <a:stCxn id="74" idx="0"/>
              <a:endCxn id="72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4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891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n ddefnyddio canlyniadau’r archwiliad sgiliau / unrhyw brawf arall sydd wedi canfod sgiliau a galluoedd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Nodwch swyddogaethau posibl sy’n cyfateb â’ch sgiliau a’ch galluoedd chi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Nodwch unrhyw swyddogaeth/swyddogaethau na ellir eu cyflawni’n ddigonol am nad yw’r sgiliau angenrheidiol ar gael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Esboniwch sut y gallech ddatrys y broblem y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549360"/>
          <a:ext cx="8229600" cy="5757840"/>
        </p:xfrm>
        <a:graphic>
          <a:graphicData uri="http://schemas.openxmlformats.org/drawingml/2006/table">
            <a:tbl>
              <a:tblPr/>
              <a:tblGrid>
                <a:gridCol w="2743200"/>
                <a:gridCol w="3449520"/>
                <a:gridCol w="2036880"/>
              </a:tblGrid>
              <a:tr h="56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yddogae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giliau/Priodwedd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nhyrc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erthu a Marchn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sgrifennydd/Ysgrifenyddes ac adnoddau dyn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wgrymiadau ar gyfer cymorth ychwanego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Ll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880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wblhewch y daflen a gawsoch er mwyn ystyried sut wnaethoch chi adnabod y swyddogaeth/swyddogaethau mwyaf addas ar eich cyfer 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 result for clip art - working relationships"/>
          <p:cNvPicPr/>
          <p:nvPr/>
        </p:nvPicPr>
        <p:blipFill>
          <a:blip r:embed="rId1"/>
          <a:stretch/>
        </p:blipFill>
        <p:spPr>
          <a:xfrm>
            <a:off x="5565600" y="4505400"/>
            <a:ext cx="31672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9:45:58Z</dcterms:created>
  <dc:creator>Home</dc:creator>
  <dc:description/>
  <dc:language>en-US</dc:language>
  <cp:lastModifiedBy>gj</cp:lastModifiedBy>
  <dcterms:modified xsi:type="dcterms:W3CDTF">2015-09-11T16:02:06Z</dcterms:modified>
  <cp:revision>53</cp:revision>
  <dc:subject/>
  <dc:title>Slide 1</dc:title>
</cp:coreProperties>
</file>